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C37D-4A48-474F-93C3-08A9102C4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4CE0-AEDE-4E63-AC56-3C9B47223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43D0-6F33-4B40-9670-330EFE5A2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1211-5D70-48AE-B97D-671B82278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6DAA-B56C-4EAA-9037-CC2237C83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8E6B-04DA-4363-87A1-7B2D2922CE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1B7C-D12A-4630-ACC7-A75F44B2D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2CA5-7C5E-454F-BF8B-16D44DB20C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16BA-93A7-4F2F-A305-E79A7661CF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7D8E-C477-4A68-839C-8E892B7DC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AF71-C016-4857-9CC8-BF27557FD2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95F4-93A8-4B9B-9CAC-AF65F5F0B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1E59-B002-4F68-97C7-401F7A15D7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E01D-5510-450D-A619-9100EB3BA0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DD72-5616-46E4-885F-E68C62ED8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2E95-4E4F-4DF5-AF52-FE61E6F03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9BF7-5996-42F3-B745-04F60B1C4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FAFD-5664-427E-8FB1-0D4D8BF84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125A-4A73-414C-810A-564A240B3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FFFA-3EFC-43F8-A7AB-6774384C9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ED62-F3C5-4395-9CF1-3AE54A8BE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E6F0-0AE8-4744-A873-E2C14CA9E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9BD6-B337-45E6-8E29-1763FEAAE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58D7-9DA9-4AE5-A542-A0E412ABF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D8E-F7B6-4405-84D0-04FACA1B2D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6C95-054C-4E55-AA2C-2A6288589D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A2EE-0448-41AE-AF6B-7AD69EC3F9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F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ame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goal for Math CAMP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7908-A59E-4386-8CFB-76D7746414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11D-EA53-4524-B200-76E363A673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nograph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community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28D-19FB-40FF-AE57-2461DFD07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York Region District Schoolboard</cp:lastModifiedBy>
  <dcterms:modified xsi:type="dcterms:W3CDTF">2011-08-01T16:34:45Z</dcterms:modified>
  <cp:revision>7</cp:revision>
  <dc:subject/>
  <dc:title>&lt;Title&gt;</dc:title>
</cp:coreProperties>
</file>